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8ae7"/>
                </a:solidFill>
                <a:latin typeface="PF Din Text Comp Pro Medium"/>
              </a:rPr>
              <a:t>Click to move the slide</a:t>
            </a: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68E0-2797-420B-B91F-E3246EA59B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818F-2D10-428E-A188-9C4F22787B43}" type="slidenum">
              <a:rPr b="0" lang="ru-RU" sz="1200" spc="-1" strike="noStrike">
                <a:solidFill>
                  <a:srgbClr val="1f50a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102851"/>
                </a:solidFill>
                <a:latin typeface="Calibri"/>
              </a:rPr>
              <a:t>Средняя стоимость противочумных костюмов типа </a:t>
            </a:r>
            <a:r>
              <a:rPr b="0" lang="en-US" sz="700" spc="-1" strike="noStrike">
                <a:solidFill>
                  <a:srgbClr val="102851"/>
                </a:solidFill>
                <a:latin typeface="Calibri"/>
              </a:rPr>
              <a:t>I</a:t>
            </a:r>
            <a:r>
              <a:rPr b="0" lang="ru-RU" sz="700" spc="-1" strike="noStrike">
                <a:solidFill>
                  <a:srgbClr val="102851"/>
                </a:solidFill>
                <a:latin typeface="Calibri"/>
              </a:rPr>
              <a:t> - 10 тыс рублей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102851"/>
                </a:solidFill>
                <a:latin typeface="Calibri"/>
              </a:rPr>
              <a:t>Ограничение возможности закупа дополнительного количества масок по прежней стоимости у поставщиков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F64A-6805-4EAF-B4D5-9303064D6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4CE2-E07C-4ED7-AFAC-9EF44B948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D411-200C-4FDC-90D1-C82149B2D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F493-8384-4BD0-A582-C3E98BEB5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F4D51-F917-42E5-8BD8-978CFB2009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B80A8-7A83-44B4-83B7-22DDF9A045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F9C2-AE83-4BE4-98D8-1F873416AE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C3372-6915-4307-92C6-C03ABABFF4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C147-6B43-45E7-BC7B-829F197540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E4DFF-0C95-4D9C-AF5F-543AC6A9BA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4F1C-FAD2-4AE2-82CC-99D0E9BA1F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83F8-7A29-471B-932A-1568F6CFB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EF786-5C5A-440C-B880-2A363B2C35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97F4C-5A48-44DA-B422-0349D27727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05D5-51FE-4779-A912-86DF4DC110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CED0D-1694-48C6-A7B5-561F23FC1B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D7003-B27A-4E08-9BD4-1C86EAC72F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F42C-3FB9-4114-9A11-7445B3FF5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71CC-A950-4493-8C4B-31E80F801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9571-C6C6-4FB6-BF05-A6EF4550F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34C9-2115-4998-BA23-8F0DFFF30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D0C6-2214-459D-99BF-A6D7456C5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347B-C871-4505-9A24-57CB7D6A5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E5E0-016A-445B-9B3A-E01F35DD9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10" descr=""/>
          <p:cNvPicPr/>
          <p:nvPr/>
        </p:nvPicPr>
        <p:blipFill>
          <a:blip r:embed="rId2"/>
          <a:stretch/>
        </p:blipFill>
        <p:spPr>
          <a:xfrm>
            <a:off x="203040" y="85680"/>
            <a:ext cx="46224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11652120" y="6318000"/>
            <a:ext cx="54000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440280"/>
              </a:tabLst>
              <a:def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440280"/>
              </a:tabLst>
            </a:pPr>
            <a:fld id="{D82BB652-35D1-4062-95C4-9DB20C778869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10" descr=""/>
          <p:cNvPicPr/>
          <p:nvPr/>
        </p:nvPicPr>
        <p:blipFill>
          <a:blip r:embed="rId2"/>
          <a:stretch/>
        </p:blipFill>
        <p:spPr>
          <a:xfrm>
            <a:off x="203040" y="85680"/>
            <a:ext cx="462240" cy="863640"/>
          </a:xfrm>
          <a:prstGeom prst="rect">
            <a:avLst/>
          </a:prstGeom>
          <a:ln w="0">
            <a:noFill/>
          </a:ln>
        </p:spPr>
      </p:pic>
      <p:sp>
        <p:nvSpPr>
          <p:cNvPr id="39" name="Прямоугольник 7"/>
          <p:cNvSpPr/>
          <p:nvPr/>
        </p:nvSpPr>
        <p:spPr>
          <a:xfrm>
            <a:off x="843120" y="490680"/>
            <a:ext cx="113490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2"/>
          </p:nvPr>
        </p:nvSpPr>
        <p:spPr>
          <a:xfrm>
            <a:off x="11652120" y="6318000"/>
            <a:ext cx="54000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440280"/>
              </a:tabLst>
              <a:def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440280"/>
              </a:tabLst>
            </a:pPr>
            <a:fld id="{4027A19A-BE72-4589-9D66-63437A3E8DFC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41076095-A6F2-416F-A040-68A7E37FEA83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280" y="2212920"/>
            <a:ext cx="11338200" cy="380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c1c10"/>
                </a:solidFill>
                <a:latin typeface="PF Din Text Comp Pro Medium"/>
                <a:ea typeface="PF Din Text Comp Pro Medium"/>
              </a:rPr>
              <a:t>О мерах по предупреждению завоза </a:t>
            </a:r>
            <a:br>
              <a:rPr sz="4800"/>
            </a:br>
            <a:r>
              <a:rPr b="0" lang="ru-RU" sz="4800" spc="-1" strike="noStrike">
                <a:solidFill>
                  <a:srgbClr val="fc1c10"/>
                </a:solidFill>
                <a:latin typeface="PF Din Text Comp Pro Medium"/>
                <a:ea typeface="PF Din Text Comp Pro Medium"/>
              </a:rPr>
              <a:t>и  распространения коронаровирусной инфекции в Пермском крае</a:t>
            </a:r>
            <a:endParaRPr b="0" lang="en-US" sz="48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6960" y="5626080"/>
            <a:ext cx="4818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9216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67171"/>
                </a:solidFill>
                <a:latin typeface="Arial Narrow"/>
                <a:ea typeface="PT Sans"/>
              </a:rPr>
              <a:t>Докладчик: 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67171"/>
                </a:solidFill>
                <a:latin typeface="Arial Narrow"/>
                <a:ea typeface="PT Sans"/>
              </a:rPr>
              <a:t>Камкин Евгений Валерьевич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67171"/>
                </a:solidFill>
                <a:latin typeface="Arial Narrow"/>
                <a:ea typeface="PT Sans"/>
              </a:rPr>
              <a:t>Зам. министра здравоохранения Пермского края</a:t>
            </a:r>
            <a:endParaRPr b="0" lang="en-US" sz="16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10750680" y="562608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216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67171"/>
                </a:solidFill>
                <a:latin typeface="Arial Narrow"/>
                <a:ea typeface="PT Sans"/>
              </a:rPr>
              <a:t>2020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4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FCB362C5-5159-4ED2-A13E-7831AEF95B70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2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c1c10"/>
                </a:solidFill>
                <a:latin typeface="PF Din Text Comp Pro Medium"/>
              </a:rPr>
              <a:t>Эпидемическая ситуация по коронавирусной инфекцией в Пермском крае</a:t>
            </a: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7171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17520" y="1627200"/>
            <a:ext cx="11506320" cy="4656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За период с 24.01.2020 по настоящее время проведено: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4546a"/>
                </a:solidFill>
                <a:latin typeface="Arial"/>
              </a:rPr>
              <a:t>медицинское наблюдение в условиях обсервационного отделения: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12 граждан КНР (обследованы, выписаны)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4546a"/>
                </a:solidFill>
                <a:latin typeface="Arial"/>
              </a:rPr>
              <a:t>лечение в условиях инфекционного стационара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27  лиц (из них 7 детей), прибывших из КНР (все госпитализированные пациенты выписаны.  При лабораторных исследований новая коронавирусная инфекция не выявлена)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4546a"/>
                </a:solidFill>
                <a:latin typeface="Arial"/>
              </a:rPr>
              <a:t>медицинское наблюдение за прибывшими из КНР, Ирана, Ю.Кореи, Италии и др. стран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, в которых зафиксированы случаи </a:t>
            </a:r>
            <a:r>
              <a:rPr b="0" lang="en-US" sz="1600" spc="-1" strike="noStrike">
                <a:solidFill>
                  <a:srgbClr val="44546a"/>
                </a:solidFill>
                <a:latin typeface="Arial"/>
              </a:rPr>
              <a:t>2019-nCoV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, в количестве 486 человек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На 12 марта 2020 г. под медицинским наблюдением на дому находится 90 человек: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78 граждан РФ, прибывших с территории Республики Италия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6 граждан РФ, прибывших с территории Республики Южная Корея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2 гражданин РФ, прибывший с территории Королевства Испания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1 гражданин РФ, прибывший с территории Австрии;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1 гражданин РФ, прибывший с территории Франции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2 гражданина Республики Иран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4"/>
          <p:cNvSpPr/>
          <p:nvPr/>
        </p:nvSpPr>
        <p:spPr>
          <a:xfrm>
            <a:off x="11596680" y="1206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B64A6259-C50D-4F8F-8622-311300CC1F64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7640" y="198360"/>
            <a:ext cx="109728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2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PF Din Text Comp Pro Medium"/>
              </a:rPr>
              <a:t>Стратегия ведения прибывших граждан</a:t>
            </a: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255600" y="107964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Лица, прибывшие с территории из КНР, Кореи, Ирана, Италии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4" name="AutoShape 19"/>
          <p:cNvSpPr/>
          <p:nvPr/>
        </p:nvSpPr>
        <p:spPr>
          <a:xfrm>
            <a:off x="4378320" y="1289160"/>
            <a:ext cx="1096920" cy="293400"/>
          </a:xfrm>
          <a:prstGeom prst="rightArrow">
            <a:avLst>
              <a:gd name="adj1" fmla="val 50000"/>
              <a:gd name="adj2" fmla="val 93466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5792760" y="1068480"/>
            <a:ext cx="6073920" cy="91692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Изоляция на дому 14 дней с выдачей листа нетрудоспособности и 2-3 кратное обследованием на коронавирус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6" name="AutoShape 23"/>
          <p:cNvSpPr/>
          <p:nvPr/>
        </p:nvSpPr>
        <p:spPr>
          <a:xfrm>
            <a:off x="4433760" y="381636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7" name="AutoShape 24"/>
          <p:cNvSpPr/>
          <p:nvPr/>
        </p:nvSpPr>
        <p:spPr>
          <a:xfrm>
            <a:off x="4473720" y="498780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255600" y="229716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Лица, с признаками ОРВИ, прибывшие с территории КНР, Кореи, Ирана, Италии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9" name="Text Box 27"/>
          <p:cNvSpPr/>
          <p:nvPr/>
        </p:nvSpPr>
        <p:spPr>
          <a:xfrm>
            <a:off x="5834160" y="2174760"/>
            <a:ext cx="6043680" cy="91692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Госпитализация в инфекционные боксы согласно утвержденной схемы, исследование на коронавирус  4-х кратное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5830920" y="3313080"/>
            <a:ext cx="6083280" cy="119124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Выяснение эпиданамнеза </a:t>
            </a:r>
            <a:r>
              <a:rPr b="1" lang="ru-RU" sz="1800" spc="-1" strike="noStrike">
                <a:solidFill>
                  <a:srgbClr val="1f50a1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 активное меднаблюдение без выдачи листка нетрудоспособности, однократное исследование на коронавирус по направлению врача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048120" y="612288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255600" y="581976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Здоровые, бывшие в контакте с больным коронавирусной инфекцией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902200" y="6043680"/>
            <a:ext cx="6012000" cy="64260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Обсервационный госпиталь с выдачей листа нетрудоспособности , 4-х кратное обследование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4" name="AutoShape 35"/>
          <p:cNvSpPr/>
          <p:nvPr/>
        </p:nvSpPr>
        <p:spPr>
          <a:xfrm>
            <a:off x="4465800" y="609588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255600" y="466884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Лица, прибывшие из других регионов с признаками ОРВИ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6" name="AutoShape 37"/>
          <p:cNvSpPr/>
          <p:nvPr/>
        </p:nvSpPr>
        <p:spPr>
          <a:xfrm>
            <a:off x="4410000" y="249228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5781600" y="1087560"/>
            <a:ext cx="5403960" cy="36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862600" y="4670280"/>
            <a:ext cx="6051600" cy="119124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Выяснение эпиданамнеза </a:t>
            </a:r>
            <a:r>
              <a:rPr b="1" lang="ru-RU" sz="1800" spc="-1" strike="noStrike">
                <a:solidFill>
                  <a:srgbClr val="1f50a1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 госпитализация в инфекционные боксы согласно утвержденной схемы, исследование на коронавиру по направлению врача 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255600" y="350532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Лица, прибывшие из других регионов без признаков ОРВИ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ACC24877-E012-4ACE-A84C-236229C11843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96920" y="1170000"/>
            <a:ext cx="11631600" cy="54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f50a1"/>
                </a:solidFill>
                <a:uFillTx/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Воздержитесь от посещения общественных мест: торговых центров, спортивных и зрелищных мероприятий, транспорта в час пик;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Используйте одноразовую медицинскую маску (респиратор) в общественных местах, меняя ее каждые 3 часа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Избегайте близких контактов и пребывания в одном помещении с людьми, имеющими видимые признаки ОРВИ (кашель, чихание, выделения из носа)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Мойте руки с мылом и водой тщательно после возвращения с улицы, контактов с посторонними людьми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Дезинфицируйте гаджеты, оргтехнику и поверхности, к которым прикасаетесь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Ограничьте по возможности при приветствии тесные объятия и рукопожатия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Пользуйтесь только индивидуальными предметами личной гигиены (полотенце, зубная щетка)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70c03"/>
                </a:solidFill>
                <a:latin typeface="Arial Narrow"/>
              </a:rPr>
              <a:t>Помните: в случае появления признаков ОРВИ вызывайте врача, не занимайтесь самолечением!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63" name="Прямоугольник 5"/>
          <p:cNvSpPr/>
          <p:nvPr/>
        </p:nvSpPr>
        <p:spPr>
          <a:xfrm>
            <a:off x="855720" y="127080"/>
            <a:ext cx="107139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c1c10"/>
                </a:solidFill>
                <a:latin typeface="Calibri"/>
              </a:rPr>
              <a:t>7 шагов по профилактике коронавирусной инфекции</a:t>
            </a:r>
            <a:endParaRPr b="0" lang="en-US" sz="36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36F72D13-B541-483A-9215-BA37DC95F0DD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6032-EA97-4EE4-969E-BBF393958475}" type="slidenum">
              <a:rPr b="0" lang="ru-RU" sz="1200" spc="-1" strike="noStrike">
                <a:solidFill>
                  <a:srgbClr val="8c97be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1784520" y="2908440"/>
            <a:ext cx="8615160" cy="78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0a02"/>
                </a:solidFill>
                <a:latin typeface="Calibri"/>
              </a:rPr>
              <a:t>Будьте здоровы!</a:t>
            </a:r>
            <a:endParaRPr b="0" lang="en-US" sz="36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15B3AED0-F102-4EEA-B758-EA8B536A6A35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5160" y="1469520"/>
            <a:ext cx="11410920" cy="45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становление Председательства Правительства Российской Федерации от 31 января 2020 г. </a:t>
            </a:r>
            <a:br>
              <a:rPr sz="2000"/>
            </a:b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№ 66 «О внесении изменения в перечень заболеваний, представляющих опасность для окружающих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становление Главного государственного санитарного врача Российской Федерации от 24 января 2020 г. № 2 «О дополнительных мероприятиях по недопущению завоза и распространения новой коронавирусной инфекции, вызванной 2019-</a:t>
            </a:r>
            <a:r>
              <a:rPr b="0" lang="en-US" sz="2000" spc="-1" strike="noStrike">
                <a:solidFill>
                  <a:srgbClr val="102851"/>
                </a:solidFill>
                <a:latin typeface="Calibri"/>
              </a:rPr>
              <a:t>nCoV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становление Главного государственного санитарного врача Российской Федерации от 31 января 2020 г. № 3 «О проведении дополнительных санитарно-противоэпидемических (профилактических) мероприятий по недопущению завоза и распространения новой коронавирусной инфекции, вызванной 2019-</a:t>
            </a:r>
            <a:r>
              <a:rPr b="0" lang="en-US" sz="2000" spc="-1" strike="noStrike">
                <a:solidFill>
                  <a:srgbClr val="102851"/>
                </a:solidFill>
                <a:latin typeface="Calibri"/>
              </a:rPr>
              <a:t>nCo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V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становление Главного государственного санитарного врача Российской Федерации от 2 марта 2020 г. № 5 «О дополнительных мерах по снижению рисков завоза и распространения новой коронавирусной инфекции (2019-</a:t>
            </a:r>
            <a:r>
              <a:rPr b="0" lang="en-US" sz="2000" spc="-1" strike="noStrike">
                <a:solidFill>
                  <a:srgbClr val="102851"/>
                </a:solidFill>
                <a:latin typeface="Calibri"/>
              </a:rPr>
              <a:t>nCo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V)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a0a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642960" y="345960"/>
            <a:ext cx="11549160" cy="84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1c10"/>
                </a:solidFill>
                <a:latin typeface="Calibri"/>
              </a:rPr>
              <a:t>Нормативно-правовая документация </a:t>
            </a:r>
            <a:endParaRPr b="0" lang="en-US" sz="32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1c10"/>
                </a:solidFill>
                <a:latin typeface="Calibri"/>
              </a:rPr>
              <a:t>федерального уровня</a:t>
            </a:r>
            <a:endParaRPr b="0" lang="en-US" sz="32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3FAD5219-7808-4FEA-B142-D93B51BDA755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7920" y="1279080"/>
            <a:ext cx="11479320" cy="511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лан организационных, санитарно-противоэпидемических (профилактических) мероприятий </a:t>
            </a:r>
            <a:br>
              <a:rPr sz="2000"/>
            </a:b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 предупреждению завоза и распространения новой коронавирусной инфекции, утвержденный и.о. председателя Правительства Пермского края от 30 января 2020 г.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ротокол межведомственной санитарно-противоэпидемической комиссии при Правительстве Пермского края от 31 января 2020 г. № 117 «О предотвращении возможности завоза нового коронавируса в Пермский край и дополнительных профилактических мероприятиях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Распоряжение Правительства Пермского края от 7 февраля 2020 г. № 25-рп «О создании оперативного штаба по координации мероприятий по предупреждению распространения новой коронавирусной инфекции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ротоколы заседания Оперативного штаба по координации мероприятий по предупреждению распространения на территории Пермского края коронавирусной инфекции при Правительстве Пермского края от 5 февраля 2020 г. № 1 и от 3 марта 2020 г. № 2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риказ Министерства здравоохранения Пермского края от 30 января 2020г. № СЭД-34-01-05-43 </a:t>
            </a:r>
            <a:br>
              <a:rPr sz="2000"/>
            </a:b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«О дополнительных мерах по недопущению распространения новой коронавирусной инфекции» 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aa0a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67171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1122480" y="174600"/>
            <a:ext cx="107139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Организационная работа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Нормативно-правовая</a:t>
            </a:r>
            <a:r>
              <a:rPr b="0" lang="en-US" sz="2400" spc="-1" strike="noStrike">
                <a:solidFill>
                  <a:srgbClr val="fc1c1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и организационная документация регионального уровня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F42DDDF1-10AA-49F6-9CBC-185F1EC724C2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7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665FB411-4221-4E59-8236-9E429610748E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249200" y="158760"/>
            <a:ext cx="10714320" cy="85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Организационная работа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Маршрутизация пациентов с подтвержденной коронавирусной инфекцией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9" name="Объект 2"/>
          <p:cNvSpPr/>
          <p:nvPr/>
        </p:nvSpPr>
        <p:spPr>
          <a:xfrm>
            <a:off x="144360" y="1268280"/>
            <a:ext cx="11819160" cy="48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aa0a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Приказом Министерства от 30 января 2020 г. № СЭД-34-01-05-43 определена </a:t>
            </a:r>
            <a:r>
              <a:rPr b="0" lang="ru-RU" sz="2400" spc="-1" strike="noStrike">
                <a:solidFill>
                  <a:srgbClr val="c70c03"/>
                </a:solidFill>
                <a:latin typeface="Calibri"/>
              </a:rPr>
              <a:t>схема маршрутизации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 в боксированные отделения взрослых, детей и беременных с симптомами не исключающими коронаровирусную инфекцию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Определена </a:t>
            </a:r>
            <a:r>
              <a:rPr b="0" lang="ru-RU" sz="2400" spc="-1" strike="noStrike">
                <a:solidFill>
                  <a:srgbClr val="c70c03"/>
                </a:solidFill>
                <a:latin typeface="Calibri"/>
              </a:rPr>
              <a:t>базовая медицинская организация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, принимающая пациентов с подтвержденной коронаровирусной инфекцией и контактных с зараженными, на базе ГБУЗ ПК «Пермская краевая клиническая инфекционная больница», </a:t>
            </a:r>
            <a:r>
              <a:rPr b="0" lang="ru-RU" sz="2400" spc="-1" strike="noStrike">
                <a:solidFill>
                  <a:srgbClr val="050d19"/>
                </a:solidFill>
                <a:latin typeface="Calibri"/>
              </a:rPr>
              <a:t>на 305 коек, из них </a:t>
            </a:r>
            <a:r>
              <a:rPr b="0" lang="ru-RU" sz="2400" spc="-1" strike="noStrike">
                <a:solidFill>
                  <a:srgbClr val="c70c03"/>
                </a:solidFill>
                <a:latin typeface="Calibri"/>
              </a:rPr>
              <a:t>185 коек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, в т.ч. 15 детских боксов на 30 коек и 5 взрослых боксов на 15 коек, для приема пациентов </a:t>
            </a:r>
            <a:r>
              <a:rPr b="0" lang="en-US" sz="2400" spc="-1" strike="noStrike">
                <a:solidFill>
                  <a:srgbClr val="102851"/>
                </a:solidFill>
                <a:latin typeface="Calibri"/>
              </a:rPr>
              <a:t>2019-nCoV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Предусмотрена возможность госпитализации пациентов с другими инфекциями (помимо коронаровирусной)</a:t>
            </a:r>
            <a:r>
              <a:rPr b="0" lang="en-US" sz="2400" spc="-1" strike="noStrike">
                <a:solidFill>
                  <a:srgbClr val="102851"/>
                </a:solidFill>
                <a:latin typeface="Wingdings"/>
                <a:ea typeface="Wingdings"/>
              </a:rPr>
              <a:t>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 ПКЦ «ФМБА» для взрослых, ГБУЗ ПК «КМСЧ №1 для беременных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Организована работа </a:t>
            </a:r>
            <a:r>
              <a:rPr b="0" lang="ru-RU" sz="2400" spc="-1" strike="noStrike">
                <a:solidFill>
                  <a:srgbClr val="c70c03"/>
                </a:solidFill>
                <a:latin typeface="Calibri"/>
              </a:rPr>
              <a:t>«Горячей  линии» тел. 258-07-87 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с целью информирования граждан, вернувшихся с неблагополучных по коронавирусной инфекции территорий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317A7F3E-FC32-438E-8915-67338ED20D4E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63680" y="1218960"/>
            <a:ext cx="8039160" cy="55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командно-штабное учение с участием Министерства здравоохранения, служба медицины катастроф, медицинские организации, Управление Роспотребнадзора, МЧС, ГУ МВД, Управление Росгвардии.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45 проверок готовности МО к работе в условиях возможного заноса инфекции с участием Управление Роспотребнадзора.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Объектовые тренировки в учреждениях по отработке алгоритмов работы в строгом противоэпидемическом режиме (поликлиники, стационары). 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  <a:ea typeface="Calibri"/>
              </a:rPr>
              <a:t>Проведено 305 инструктажей медицинского персонала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Отработан порядок проведения заключительной дезинфекции транспорта.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102851"/>
                </a:solidFill>
                <a:latin typeface="Calibri"/>
                <a:ea typeface="Calibri"/>
              </a:rPr>
              <a:t>Проведены практические семинары по технике забора и транспортировки материалов на исследование.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603D-BC92-488E-B2F7-B50AB95C3BEA}" type="slidenum">
              <a:rPr b="0" lang="ru-RU" sz="1200" spc="-1" strike="noStrike">
                <a:solidFill>
                  <a:srgbClr val="8c97be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825480" y="127080"/>
            <a:ext cx="1115064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Организационная работа. 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Командно-штабные учения, тренировки, обучения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</p:txBody>
      </p:sp>
      <p:pic>
        <p:nvPicPr>
          <p:cNvPr id="104" name="Picture 5" descr="DSC_1396"/>
          <p:cNvPicPr/>
          <p:nvPr/>
        </p:nvPicPr>
        <p:blipFill>
          <a:blip r:embed="rId1"/>
          <a:stretch/>
        </p:blipFill>
        <p:spPr>
          <a:xfrm>
            <a:off x="77760" y="1071720"/>
            <a:ext cx="3884760" cy="211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images"/>
          <p:cNvPicPr/>
          <p:nvPr/>
        </p:nvPicPr>
        <p:blipFill>
          <a:blip r:embed="rId2"/>
          <a:stretch/>
        </p:blipFill>
        <p:spPr>
          <a:xfrm>
            <a:off x="100080" y="3373560"/>
            <a:ext cx="3862440" cy="194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image_big_174523"/>
          <p:cNvPicPr/>
          <p:nvPr/>
        </p:nvPicPr>
        <p:blipFill>
          <a:blip r:embed="rId3"/>
          <a:stretch/>
        </p:blipFill>
        <p:spPr>
          <a:xfrm>
            <a:off x="268200" y="5402160"/>
            <a:ext cx="217656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81E31B19-D33A-4E8F-A920-621388D1C767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08" name="Pentagon 149"/>
          <p:cNvSpPr/>
          <p:nvPr/>
        </p:nvSpPr>
        <p:spPr>
          <a:xfrm>
            <a:off x="419040" y="1336680"/>
            <a:ext cx="2300400" cy="976320"/>
          </a:xfrm>
          <a:custGeom>
            <a:avLst/>
            <a:gdLst>
              <a:gd name="textAreaLeft" fmla="*/ 0 w 2300400"/>
              <a:gd name="textAreaRight" fmla="*/ 2300400 w 230040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16" y="0"/>
                </a:lnTo>
                <a:lnTo>
                  <a:pt x="21600" y="10800"/>
                </a:lnTo>
                <a:lnTo>
                  <a:pt x="170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d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17</a:t>
            </a:r>
            <a:r>
              <a:rPr b="0" lang="ru-RU" sz="1600" spc="-1" strike="noStrike">
                <a:solidFill>
                  <a:srgbClr val="2257ae"/>
                </a:solidFill>
                <a:latin typeface="PT Serif"/>
                <a:ea typeface="PT Serif"/>
              </a:rPr>
              <a:t> медицинских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57ae"/>
                </a:solidFill>
                <a:latin typeface="PT Serif"/>
                <a:ea typeface="PT Serif"/>
              </a:rPr>
              <a:t>организаций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09" name="Chevron 102"/>
          <p:cNvSpPr/>
          <p:nvPr/>
        </p:nvSpPr>
        <p:spPr>
          <a:xfrm>
            <a:off x="2211480" y="1338120"/>
            <a:ext cx="2703600" cy="974880"/>
          </a:xfrm>
          <a:custGeom>
            <a:avLst/>
            <a:gdLst>
              <a:gd name="textAreaLeft" fmla="*/ 0 w 2703600"/>
              <a:gd name="textAreaRight" fmla="*/ 2703960 w 270360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1" y="0"/>
                </a:lnTo>
                <a:lnTo>
                  <a:pt x="21600" y="10800"/>
                </a:lnTo>
                <a:lnTo>
                  <a:pt x="18041" y="21600"/>
                </a:lnTo>
                <a:lnTo>
                  <a:pt x="0" y="21600"/>
                </a:lnTo>
                <a:lnTo>
                  <a:pt x="3559" y="10800"/>
                </a:lnTo>
                <a:close/>
              </a:path>
            </a:pathLst>
          </a:custGeom>
          <a:solidFill>
            <a:srgbClr val="93d5f8"/>
          </a:solidFill>
          <a:ln w="0">
            <a:noFill/>
          </a:ln>
          <a:effectLst>
            <a:outerShdw dist="63360" dir="5400000" blurRad="0" rotWithShape="0">
              <a:srgbClr val="999999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960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208</a:t>
            </a: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 боксированных инфекционных коек 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0" name="Chevron 102"/>
          <p:cNvSpPr/>
          <p:nvPr/>
        </p:nvSpPr>
        <p:spPr>
          <a:xfrm>
            <a:off x="4460760" y="1333440"/>
            <a:ext cx="2849760" cy="979560"/>
          </a:xfrm>
          <a:custGeom>
            <a:avLst/>
            <a:gdLst>
              <a:gd name="textAreaLeft" fmla="*/ 0 w 2849760"/>
              <a:gd name="textAreaRight" fmla="*/ 2850120 w 28497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07" y="0"/>
                </a:lnTo>
                <a:lnTo>
                  <a:pt x="21600" y="10800"/>
                </a:lnTo>
                <a:lnTo>
                  <a:pt x="18207" y="21600"/>
                </a:lnTo>
                <a:lnTo>
                  <a:pt x="0" y="21600"/>
                </a:lnTo>
                <a:lnTo>
                  <a:pt x="3393" y="10800"/>
                </a:lnTo>
                <a:close/>
              </a:path>
            </a:pathLst>
          </a:custGeom>
          <a:solidFill>
            <a:srgbClr val="d0cece"/>
          </a:solidFill>
          <a:ln w="0">
            <a:noFill/>
          </a:ln>
          <a:effectLst>
            <a:outerShdw dist="63360" dir="5400000" blurRad="0" rotWithShape="0">
              <a:srgbClr val="999999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960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Из них </a:t>
            </a: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57</a:t>
            </a: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  боксированных реанимационных коек 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1" name="Pentagon 149"/>
          <p:cNvSpPr/>
          <p:nvPr/>
        </p:nvSpPr>
        <p:spPr>
          <a:xfrm>
            <a:off x="419040" y="3051000"/>
            <a:ext cx="2274840" cy="976320"/>
          </a:xfrm>
          <a:custGeom>
            <a:avLst/>
            <a:gdLst>
              <a:gd name="textAreaLeft" fmla="*/ 0 w 2274840"/>
              <a:gd name="textAreaRight" fmla="*/ 2274840 w 227484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65" y="0"/>
                </a:lnTo>
                <a:lnTo>
                  <a:pt x="21600" y="10800"/>
                </a:lnTo>
                <a:lnTo>
                  <a:pt x="169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d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17 </a:t>
            </a:r>
            <a:r>
              <a:rPr b="0" lang="ru-RU" sz="1600" spc="-1" strike="noStrike">
                <a:solidFill>
                  <a:srgbClr val="2257ae"/>
                </a:solidFill>
                <a:latin typeface="PT Serif"/>
                <a:ea typeface="PT Serif"/>
              </a:rPr>
              <a:t>медицинских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57ae"/>
                </a:solidFill>
                <a:latin typeface="PT Serif"/>
                <a:ea typeface="PT Serif"/>
              </a:rPr>
              <a:t>организаций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2" name="Chevron 102"/>
          <p:cNvSpPr/>
          <p:nvPr/>
        </p:nvSpPr>
        <p:spPr>
          <a:xfrm>
            <a:off x="2211480" y="3052800"/>
            <a:ext cx="3552840" cy="974520"/>
          </a:xfrm>
          <a:custGeom>
            <a:avLst/>
            <a:gdLst>
              <a:gd name="textAreaLeft" fmla="*/ 0 w 3552840"/>
              <a:gd name="textAreaRight" fmla="*/ 3553200 w 355284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1" y="0"/>
                </a:lnTo>
                <a:lnTo>
                  <a:pt x="21600" y="10800"/>
                </a:lnTo>
                <a:lnTo>
                  <a:pt x="18891" y="21600"/>
                </a:lnTo>
                <a:lnTo>
                  <a:pt x="0" y="21600"/>
                </a:lnTo>
                <a:lnTo>
                  <a:pt x="2709" y="10800"/>
                </a:lnTo>
                <a:close/>
              </a:path>
            </a:pathLst>
          </a:custGeom>
          <a:solidFill>
            <a:srgbClr val="93d5f8"/>
          </a:solidFill>
          <a:ln w="0">
            <a:noFill/>
          </a:ln>
          <a:effectLst>
            <a:outerShdw dist="63360" dir="5400000" blurRad="0" rotWithShape="0">
              <a:srgbClr val="999999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960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658</a:t>
            </a: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 всех инфекционных коек 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3" name="Chevron 102"/>
          <p:cNvSpPr/>
          <p:nvPr/>
        </p:nvSpPr>
        <p:spPr>
          <a:xfrm>
            <a:off x="5311800" y="3048120"/>
            <a:ext cx="3971880" cy="979200"/>
          </a:xfrm>
          <a:custGeom>
            <a:avLst/>
            <a:gdLst>
              <a:gd name="textAreaLeft" fmla="*/ 0 w 3971880"/>
              <a:gd name="textAreaRight" fmla="*/ 3972240 w 397188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65" y="0"/>
                </a:lnTo>
                <a:lnTo>
                  <a:pt x="21600" y="10800"/>
                </a:lnTo>
                <a:lnTo>
                  <a:pt x="19165" y="21600"/>
                </a:lnTo>
                <a:lnTo>
                  <a:pt x="0" y="21600"/>
                </a:lnTo>
                <a:lnTo>
                  <a:pt x="2435" y="10800"/>
                </a:lnTo>
                <a:close/>
              </a:path>
            </a:pathLst>
          </a:custGeom>
          <a:solidFill>
            <a:srgbClr val="d0cece"/>
          </a:solidFill>
          <a:ln w="0">
            <a:noFill/>
          </a:ln>
          <a:effectLst>
            <a:outerShdw dist="63360" dir="5400000" blurRad="0" rotWithShape="0">
              <a:srgbClr val="999999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960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Из них </a:t>
            </a: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118</a:t>
            </a: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  всех реанимационных коек 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4" name="Прямоугольник 9"/>
          <p:cNvSpPr/>
          <p:nvPr/>
        </p:nvSpPr>
        <p:spPr>
          <a:xfrm>
            <a:off x="343080" y="6461280"/>
            <a:ext cx="6095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50d19"/>
                </a:solidFill>
                <a:latin typeface="Arial Narrow"/>
              </a:rPr>
              <a:t>*Средней продолжительность лечения, занятости боксов/койки пациентами 14 дней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7696080" y="1363680"/>
            <a:ext cx="4381560" cy="916920"/>
          </a:xfrm>
          <a:prstGeom prst="rect">
            <a:avLst/>
          </a:prstGeom>
          <a:solidFill>
            <a:srgbClr val="a5d0e3"/>
          </a:solidFill>
          <a:ln w="64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Narrow"/>
              </a:rPr>
              <a:t>Обеспечивает прием, оказание МП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Narrow"/>
              </a:rPr>
              <a:t>при среднесуточном поступлении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не более 14 пациентов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9550440" y="2798640"/>
            <a:ext cx="2527200" cy="1465560"/>
          </a:xfrm>
          <a:prstGeom prst="rect">
            <a:avLst/>
          </a:prstGeom>
          <a:solidFill>
            <a:srgbClr val="a5d0e3"/>
          </a:solidFill>
          <a:ln w="64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Narrow"/>
              </a:rPr>
              <a:t>Обеспечивает прием, оказание МП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Narrow"/>
              </a:rPr>
              <a:t>при среднесуточном поступлении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не более 45 пациентов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7" name="Прямоугольник 12"/>
          <p:cNvSpPr/>
          <p:nvPr/>
        </p:nvSpPr>
        <p:spPr>
          <a:xfrm>
            <a:off x="419040" y="4799160"/>
            <a:ext cx="4213440" cy="855000"/>
          </a:xfrm>
          <a:prstGeom prst="rect">
            <a:avLst/>
          </a:prstGeom>
          <a:noFill/>
          <a:ln w="9360">
            <a:solidFill>
              <a:srgbClr val="108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50a1"/>
                </a:solidFill>
                <a:latin typeface="Arial"/>
              </a:rPr>
              <a:t>При одномоментном массовом или поступлении заболевших более </a:t>
            </a: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45</a:t>
            </a:r>
            <a:r>
              <a:rPr b="0" lang="ru-RU" sz="1600" spc="-1" strike="noStrike">
                <a:solidFill>
                  <a:srgbClr val="1f50a1"/>
                </a:solidFill>
                <a:latin typeface="Arial"/>
              </a:rPr>
              <a:t> пациентов в сутки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8" name="Прямоугольник 13"/>
          <p:cNvSpPr/>
          <p:nvPr/>
        </p:nvSpPr>
        <p:spPr>
          <a:xfrm>
            <a:off x="6159600" y="4756320"/>
            <a:ext cx="5918040" cy="1067400"/>
          </a:xfrm>
          <a:prstGeom prst="rect">
            <a:avLst/>
          </a:prstGeom>
          <a:solidFill>
            <a:srgbClr val="a5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Перепрофилирование всех терапевтических, пульмонологических, ОСУ коек и др.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Всего доступно 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3 301 резервная койка, в т.ч. 606 реанимационных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9" name="AutoShape 23"/>
          <p:cNvSpPr/>
          <p:nvPr/>
        </p:nvSpPr>
        <p:spPr>
          <a:xfrm>
            <a:off x="4842000" y="511488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a5d0e3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665280" y="355680"/>
            <a:ext cx="10972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1c10"/>
                </a:solidFill>
                <a:latin typeface="PF Din Text Comp Pro Medium"/>
              </a:rPr>
              <a:t>Готовность медицинских организаций Пермского края</a:t>
            </a:r>
            <a:endParaRPr b="0" lang="en-US" sz="32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0138F53C-9B57-482B-ADF9-AE5AD8D662B5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79360" y="1325160"/>
            <a:ext cx="11536560" cy="27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Аппараты для вентиляции легких - 520 шт., из них 9 для высокочастотной ИВЛ (из них  100% изношенностью оборудования 30 аппаратов ИВЛ, 7 ВЧ-ИВЛ). 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Пульсоксиметры – 1 976 ед., в том числе 273 шт. на бригадах ССМП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Аппарат для экстракорпоральной мембранной оксигенации для оказания помощи взрослому населению в ГБУЗ ПК «Ордена «Знак Почета» ПККБ»- 1 ед. 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2 передвижные дезкамеры; 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Транспортировочные изолирующие носилки с приточно-вытяжной системой вентиляции – 1  ед.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pic>
        <p:nvPicPr>
          <p:cNvPr id="124" name="Picture 6" descr="1697_image"/>
          <p:cNvPicPr/>
          <p:nvPr/>
        </p:nvPicPr>
        <p:blipFill>
          <a:blip r:embed="rId1"/>
          <a:stretch/>
        </p:blipFill>
        <p:spPr>
          <a:xfrm>
            <a:off x="10463040" y="4078440"/>
            <a:ext cx="1729080" cy="27795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6"/>
          <p:cNvSpPr/>
          <p:nvPr/>
        </p:nvSpPr>
        <p:spPr>
          <a:xfrm>
            <a:off x="843120" y="182520"/>
            <a:ext cx="1097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c1c10"/>
                </a:solidFill>
                <a:latin typeface="PF Din Text Comp Pro Medium"/>
              </a:rPr>
              <a:t>Материально-техническая готовность медицинских организаций Пермского края</a:t>
            </a:r>
            <a:endParaRPr b="0" lang="en-US" sz="35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266760" y="5892840"/>
            <a:ext cx="927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Распоряжением Правительства РФ выделена субсидия в размере </a:t>
            </a:r>
            <a:r>
              <a:rPr b="1" lang="ru-RU" sz="2000" spc="-1" strike="noStrike">
                <a:solidFill>
                  <a:srgbClr val="c70c03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c70c03"/>
                </a:solidFill>
                <a:latin typeface="Arial"/>
              </a:rPr>
              <a:t> млн. руб. </a:t>
            </a: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в целях софинансирования на приобретение аппаратов ИВЛ, ВЧ-ИВЛ, ЭКМО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266760" y="4267080"/>
            <a:ext cx="592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Потребность в приобретения: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аппарата ЭКМО для детей – 1 ед. (10 млн.руб);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Аппаратов ИВЛ – 10 ед. (15 млн.руб.);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ВЧ-ИВЛ 7 ед. (14 млн.руб.)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 сумму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39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млн.рублей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87B251AD-3967-4154-A9CF-9694D0E4E895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836640" y="0"/>
            <a:ext cx="10733040" cy="83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c1c10"/>
                </a:solidFill>
                <a:latin typeface="Calibri"/>
              </a:rPr>
              <a:t>Готовность медицинских организаций Пермского края</a:t>
            </a:r>
            <a:endParaRPr b="0" lang="en-US" sz="3500" spc="-1" strike="noStrike">
              <a:solidFill>
                <a:srgbClr val="1f50a1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16000" y="1081080"/>
          <a:ext cx="11734560" cy="5730840"/>
        </p:xfrm>
        <a:graphic>
          <a:graphicData uri="http://schemas.openxmlformats.org/drawingml/2006/table">
            <a:tbl>
              <a:tblPr/>
              <a:tblGrid>
                <a:gridCol w="3047760"/>
                <a:gridCol w="5842080"/>
                <a:gridCol w="2844720"/>
              </a:tblGrid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Средства индивидуальной защиты персонала: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1368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ополнительный потребность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1368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206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ротивочумные костюмы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типа -  240 шт.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Одноразовые костюмы типа «Кварц»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Из расчета не менее 7 костюмов на медицинскую организацию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(стационары, поликлиники, патологоанатомические бюро, ССМП).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buClr>
                          <a:srgbClr val="050d19"/>
                        </a:buClr>
                        <a:buFont typeface="PF Din Text Comp Pro Medium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ри поступлении до 14 человек в сутки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отребность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740 костюмов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;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buClr>
                          <a:srgbClr val="050d19"/>
                        </a:buClr>
                        <a:buFont typeface="PF Din Text Comp Pro Medium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ри поступлении до 130 человек в сутки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потребность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1680 костюмов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buClr>
                          <a:srgbClr val="c00000"/>
                        </a:buClr>
                        <a:buFont typeface="PF Din Text Comp Pro Medium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500 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костюмов  -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5,0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млн. руб.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2)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1440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костюмов -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14,4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млн. руб.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Частично замена на одноразовые костюмы (10 на 1 пац./сут.), особенно при единичном поступление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Халаты одноразовые, шапочка медицинская, бахилы одноразовые, перчатки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остаточно на период работы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2-3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месяца (в условиях поступления инфицированных больных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Не требуется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Маски одноразовые – 970 000 шт.; Респираторы FFP 2 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NR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 –    890 шт.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остаточно на 2 месяца работы.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Из расчета мах срока использования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FFP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NR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(24 часа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Требуется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дополнительный закуп респираторов 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2 458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шт.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Очки медицинские многоразового использования – 1550 шт.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Из расчета 3 пары очков на медицинскую бригаду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       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(стационары, поликлиники, патологоанатомические бюро, ССМП).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Не требуется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ротивовирусные средства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ля работы не менее 2-х месяцев  в условиях возможности поступления инфицированных больных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Не требуется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езинфицирующие средства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ля работы не менее 2-х месяцев в условиях поступления инфицированных больных (80 наименований, на сумму  более 13 млн. руб.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Не требуется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5E543DC8-51D7-4CE6-AD48-16DE789CE229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155240"/>
            <a:ext cx="9269280" cy="556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ts val="2636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Определены места для организации непрерывного обсервационного медицинского наблюдения: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102851"/>
                </a:solidFill>
                <a:latin typeface="Arial Narrow"/>
              </a:rPr>
              <a:t>ГБУЗ ПК «Очерская ЦРБ»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- на 30 коек (8 боксов)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Создан запас: костюмы п/чумные – 25, маски – 2 578, перчатки – 8 569. Дезсредства «Део-хлор» 10 упаковок по 300 таб.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102851"/>
                </a:solidFill>
                <a:latin typeface="Arial Narrow"/>
              </a:rPr>
              <a:t>Отделение реабилитации ГБУЗ ПК «ГКДП №6»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- на 40 коек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Создан запас: костюмы п/чумные – 20, маски – 2000, перчатки – 2000. Дезсредства «Део-хлор» 5 упаковок по 300 таб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Проведено обучение персонала – режимные моменты, дезинфекция, отбор материала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Заключены договора на охранные услуги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Разработана схема утилизации отходов. Заключены договоры на вывоз отходов класса В. Предусмотрена площадка для дезинфекции автотранспорта со сливом в накопитель (Очер). Автономная система обеззараживания жидких отходов.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Предусмотрена дезинфекционная обработка (камерная дезинфекция) после выписки каждой группы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789120" y="0"/>
            <a:ext cx="1071540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c1c10"/>
                </a:solidFill>
                <a:latin typeface="Calibri"/>
              </a:rPr>
              <a:t>Обсервационный госпиталь для здоровых контактных лиц</a:t>
            </a:r>
            <a:endParaRPr b="0" lang="en-US" sz="3600" spc="-1" strike="noStrike">
              <a:solidFill>
                <a:srgbClr val="1f50a1"/>
              </a:solidFill>
              <a:latin typeface="Arial"/>
            </a:endParaRPr>
          </a:p>
        </p:txBody>
      </p:sp>
      <p:pic>
        <p:nvPicPr>
          <p:cNvPr id="136" name="Picture 5" descr="C:\Users\kvovchinnikov\Desktop\Овчинников\Коронавирус\Обсервация\IMG-0d961d05cc7ccc6e212e3d02dcc834b3-V.jpg"/>
          <p:cNvPicPr/>
          <p:nvPr/>
        </p:nvPicPr>
        <p:blipFill>
          <a:blip r:embed="rId1"/>
          <a:stretch/>
        </p:blipFill>
        <p:spPr>
          <a:xfrm>
            <a:off x="9348840" y="739800"/>
            <a:ext cx="2843280" cy="454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01T04:57:54Z</dcterms:created>
  <dc:creator>Лариса Ерогова Ренатовна</dc:creator>
  <dc:description/>
  <dc:language>en-US</dc:language>
  <cp:lastModifiedBy>Камкин Евгений Валерьевич</cp:lastModifiedBy>
  <dcterms:modified xsi:type="dcterms:W3CDTF">2020-03-12T03:17:03Z</dcterms:modified>
  <cp:revision>197</cp:revision>
  <dc:subject/>
  <dc:title>Презентация PowerPoint</dc:title>
</cp:coreProperties>
</file>